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C071-BF8C-4D36-B6E4-5F7EE4623CDC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4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0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lk-through the Translator Developme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5029200"/>
            <a:ext cx="3276720" cy="990720"/>
          </a:xfrm>
          <a:prstGeom prst="wedgeRoundRectCallout">
            <a:avLst>
              <a:gd name="adj1" fmla="val 46462"/>
              <a:gd name="adj2" fmla="val -110898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ing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5181480"/>
            <a:ext cx="3200400" cy="609840"/>
          </a:xfrm>
          <a:prstGeom prst="wedgeRoundRectCallout">
            <a:avLst>
              <a:gd name="adj1" fmla="val -13097"/>
              <a:gd name="adj2" fmla="val -220574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 existing d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15080" y="2209680"/>
            <a:ext cx="2343600" cy="2467080"/>
            <a:chOff x="415080" y="2209680"/>
            <a:chExt cx="2343600" cy="2467080"/>
          </a:xfrm>
        </p:grpSpPr>
        <p:grpSp>
          <p:nvGrpSpPr>
            <p:cNvPr id="104" name=""/>
            <p:cNvGrpSpPr/>
            <p:nvPr/>
          </p:nvGrpSpPr>
          <p:grpSpPr>
            <a:xfrm>
              <a:off x="457200" y="2209680"/>
              <a:ext cx="2133360" cy="1524240"/>
              <a:chOff x="457200" y="2209680"/>
              <a:chExt cx="2133360" cy="1524240"/>
            </a:xfrm>
          </p:grpSpPr>
          <p:sp>
            <p:nvSpPr>
              <p:cNvPr id="105" name=""/>
              <p:cNvSpPr/>
              <p:nvPr/>
            </p:nvSpPr>
            <p:spPr>
              <a:xfrm>
                <a:off x="457200" y="22096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91080" y="23623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415080" y="3851280"/>
              <a:ext cx="234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Ex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2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2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523520" y="3293280"/>
            <a:ext cx="3543840" cy="1583640"/>
            <a:chOff x="1523520" y="3293280"/>
            <a:chExt cx="3543840" cy="1583640"/>
          </a:xfrm>
        </p:grpSpPr>
        <p:sp>
          <p:nvSpPr>
            <p:cNvPr id="126" name=""/>
            <p:cNvSpPr/>
            <p:nvPr/>
          </p:nvSpPr>
          <p:spPr>
            <a:xfrm rot="5400000">
              <a:off x="1599480" y="3733560"/>
              <a:ext cx="1067040" cy="1219320"/>
            </a:xfrm>
            <a:custGeom>
              <a:avLst/>
              <a:gdLst>
                <a:gd name="textAreaLeft" fmla="*/ 51840 w 1067040"/>
                <a:gd name="textAreaRight" fmla="*/ 1015200 w 1067040"/>
                <a:gd name="textAreaTop" fmla="*/ 51840 h 1219320"/>
                <a:gd name="textAreaBottom" fmla="*/ 1167480 h 1219320"/>
              </a:gdLst>
              <a:ahLst/>
              <a:rect l="textAreaLeft" t="textAreaTop" r="textAreaRight" b="textAreaBottom"/>
              <a:pathLst>
                <a:path w="21600" h="24682">
                  <a:moveTo>
                    <a:pt x="3600" y="0"/>
                  </a:moveTo>
                  <a:arcTo wR="3600" hR="3600" stAng="16200000" swAng="-5400000"/>
                  <a:lnTo>
                    <a:pt x="0" y="21082"/>
                  </a:lnTo>
                  <a:arcTo wR="3600" hR="3600" stAng="10800000" swAng="-5400000"/>
                  <a:lnTo>
                    <a:pt x="18000" y="246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22000">
              <a:off x="3200040" y="3886200"/>
              <a:ext cx="1828800" cy="533520"/>
            </a:xfrm>
            <a:prstGeom prst="leftArrow">
              <a:avLst>
                <a:gd name="adj1" fmla="val 50000"/>
                <a:gd name="adj2" fmla="val 85695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508000">
              <a:off x="3507480" y="350496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5257800"/>
            <a:ext cx="2362320" cy="914400"/>
          </a:xfrm>
          <a:prstGeom prst="wedgeRoundRectCallout">
            <a:avLst>
              <a:gd name="adj1" fmla="val -3023"/>
              <a:gd name="adj2" fmla="val -116666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438280"/>
            <a:ext cx="754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ically, a translator is able to export “only a subset” of the data that can be held by the application’s native data structur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24382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d, the exporting application’s native data structures many not be fully populated with dat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Data Exchange File 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3080" y="2286000"/>
            <a:ext cx="7811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5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PERTIE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201, $, #216, #217, #218, $, $, $, $, $, $, $, #219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, $, $, $, $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6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3422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7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200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8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950.0), #116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9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7180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8558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1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W1100X424', #302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2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_SOUR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ASTM', 'ASTM_A6M', 1994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3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FIL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2, 'W', 'Wide flange beam to ASTM', 'Plastic', $)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4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ASSIGN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301, #303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-152280" y="3276720"/>
            <a:ext cx="4495680" cy="22096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3733920"/>
            <a:ext cx="0" cy="99036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5257800"/>
            <a:ext cx="3505320" cy="990720"/>
          </a:xfrm>
          <a:prstGeom prst="wedgeRoundRectCallout">
            <a:avLst>
              <a:gd name="adj1" fmla="val -64629"/>
              <a:gd name="adj2" fmla="val -57532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rting applic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01600" y="1523880"/>
            <a:ext cx="2345040" cy="2467080"/>
            <a:chOff x="201600" y="1523880"/>
            <a:chExt cx="2345040" cy="2467080"/>
          </a:xfrm>
        </p:grpSpPr>
        <p:grpSp>
          <p:nvGrpSpPr>
            <p:cNvPr id="145" name=""/>
            <p:cNvGrpSpPr/>
            <p:nvPr/>
          </p:nvGrpSpPr>
          <p:grpSpPr>
            <a:xfrm>
              <a:off x="244440" y="1523880"/>
              <a:ext cx="2133360" cy="1524240"/>
              <a:chOff x="244440" y="1523880"/>
              <a:chExt cx="2133360" cy="1524240"/>
            </a:xfrm>
          </p:grpSpPr>
          <p:sp>
            <p:nvSpPr>
              <p:cNvPr id="146" name=""/>
              <p:cNvSpPr/>
              <p:nvPr/>
            </p:nvSpPr>
            <p:spPr>
              <a:xfrm>
                <a:off x="244440" y="15238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78320" y="16765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201600" y="3165480"/>
              <a:ext cx="234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Im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2438280"/>
            <a:ext cx="7391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An import translator may have the potential to populate “only a subset” of the application’s native data structure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provide a rapid introduc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54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55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8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9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75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76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2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83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9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90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905120"/>
            <a:ext cx="2362320" cy="990360"/>
          </a:xfrm>
          <a:prstGeom prst="wedgeRoundRectCallout">
            <a:avLst>
              <a:gd name="adj1" fmla="val 6046"/>
              <a:gd name="adj2" fmla="val 13942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xported 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1905120"/>
            <a:ext cx="2361960" cy="990360"/>
          </a:xfrm>
          <a:prstGeom prst="wedgeRoundRectCallout">
            <a:avLst>
              <a:gd name="adj1" fmla="val 7527"/>
              <a:gd name="adj2" fmla="val 99037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P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274320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ically a translator will employ “only a subset” of the neutral data structure defined by the LP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ical “subsets”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35046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53334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70858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2438280" y="3733560"/>
            <a:ext cx="1066680" cy="22860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286000"/>
              <a:gd name="textAreaBottom" fmla="*/ 2234160 h 2286000"/>
            </a:gdLst>
            <a:ahLst/>
            <a:rect l="textAreaLeft" t="textAreaTop" r="textAreaRight" b="textAreaBottom"/>
            <a:pathLst>
              <a:path w="21600" h="46283">
                <a:moveTo>
                  <a:pt x="3600" y="0"/>
                </a:moveTo>
                <a:arcTo wR="3600" hR="3600" stAng="16200000" swAng="-5400000"/>
                <a:lnTo>
                  <a:pt x="0" y="42683"/>
                </a:lnTo>
                <a:arcTo wR="3600" hR="3600" stAng="10800000" swAng="-5400000"/>
                <a:lnTo>
                  <a:pt x="18000" y="462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5400000">
            <a:off x="4609440" y="2933640"/>
            <a:ext cx="1067040" cy="419076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4190760"/>
              <a:gd name="textAreaBottom" fmla="*/ 4138920 h 4190760"/>
            </a:gdLst>
            <a:ahLst/>
            <a:rect l="textAreaLeft" t="textAreaTop" r="textAreaRight" b="textAreaBottom"/>
            <a:pathLst>
              <a:path w="21600" h="84812">
                <a:moveTo>
                  <a:pt x="3600" y="0"/>
                </a:moveTo>
                <a:arcTo wR="3600" hR="3600" stAng="16200000" swAng="-5400000"/>
                <a:lnTo>
                  <a:pt x="0" y="81212"/>
                </a:lnTo>
                <a:arcTo wR="3600" hR="3600" stAng="10800000" swAng="-5400000"/>
                <a:lnTo>
                  <a:pt x="18000" y="848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5067360" y="2628360"/>
            <a:ext cx="2286000" cy="41911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4191120"/>
              <a:gd name="textAreaBottom" fmla="*/ 4079520 h 4191120"/>
            </a:gdLst>
            <a:ahLst/>
            <a:rect l="textAreaLeft" t="textAreaTop" r="textAreaRight" b="textAreaBottom"/>
            <a:pathLst>
              <a:path w="21600" h="39598">
                <a:moveTo>
                  <a:pt x="3600" y="0"/>
                </a:moveTo>
                <a:arcTo wR="3600" hR="3600" stAng="16200000" swAng="-5400000"/>
                <a:lnTo>
                  <a:pt x="0" y="35998"/>
                </a:lnTo>
                <a:arcTo wR="3600" hR="3600" stAng="10800000" swAng="-5400000"/>
                <a:lnTo>
                  <a:pt x="18000" y="39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2590560" y="3504960"/>
            <a:ext cx="685800" cy="83808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838080"/>
              <a:gd name="textAreaBottom" fmla="*/ 804600 h 838080"/>
            </a:gdLst>
            <a:ahLst/>
            <a:rect l="textAreaLeft" t="textAreaTop" r="textAreaRight" b="textAreaBottom"/>
            <a:pathLst>
              <a:path w="21600" h="26394">
                <a:moveTo>
                  <a:pt x="3600" y="0"/>
                </a:moveTo>
                <a:arcTo wR="3600" hR="3600" stAng="16200000" swAng="-5400000"/>
                <a:lnTo>
                  <a:pt x="0" y="22794"/>
                </a:lnTo>
                <a:arcTo wR="3600" hR="3600" stAng="10800000" swAng="-5400000"/>
                <a:lnTo>
                  <a:pt x="18000" y="263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1790640" y="483876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621036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4457160" y="4304880"/>
            <a:ext cx="1371600" cy="838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704844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ome Basic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Logical subset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singly or in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cope and specify trans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 conformance again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rt </a:t>
            </a:r>
            <a:r>
              <a:rPr b="1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ative data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orted data held in neutral data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ative data structu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ed data held in native date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34668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224720" y="2590920"/>
            <a:ext cx="3870360" cy="2057400"/>
            <a:chOff x="1224720" y="2590920"/>
            <a:chExt cx="3870360" cy="2057400"/>
          </a:xfrm>
        </p:grpSpPr>
        <p:sp>
          <p:nvSpPr>
            <p:cNvPr id="226" name=""/>
            <p:cNvSpPr/>
            <p:nvPr/>
          </p:nvSpPr>
          <p:spPr>
            <a:xfrm flipH="1" rot="10800000">
              <a:off x="1676520" y="3124080"/>
              <a:ext cx="1295280" cy="152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24720" y="2590920"/>
              <a:ext cx="387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PM defined in EXP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295280" y="3962520"/>
            <a:ext cx="6629400" cy="2197080"/>
            <a:chOff x="1295280" y="3962520"/>
            <a:chExt cx="6629400" cy="2197080"/>
          </a:xfrm>
        </p:grpSpPr>
        <p:sp>
          <p:nvSpPr>
            <p:cNvPr id="229" name=""/>
            <p:cNvSpPr/>
            <p:nvPr/>
          </p:nvSpPr>
          <p:spPr>
            <a:xfrm rot="5400000">
              <a:off x="6057360" y="3848040"/>
              <a:ext cx="1295280" cy="15238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95280" y="5334120"/>
              <a:ext cx="6629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components (configured to LPM) to facilitate translator 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3695760" y="2247840"/>
            <a:ext cx="1295280" cy="1524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18810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3880" y="3657600"/>
            <a:ext cx="6172200" cy="26668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25680" y="4326120"/>
            <a:ext cx="1518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D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392720" y="3909960"/>
            <a:ext cx="2666880" cy="754200"/>
            <a:chOff x="4392720" y="3909960"/>
            <a:chExt cx="2666880" cy="754200"/>
          </a:xfrm>
        </p:grpSpPr>
        <p:sp>
          <p:nvSpPr>
            <p:cNvPr id="237" name=""/>
            <p:cNvSpPr/>
            <p:nvPr/>
          </p:nvSpPr>
          <p:spPr>
            <a:xfrm>
              <a:off x="4392720" y="3909960"/>
              <a:ext cx="2666880" cy="754200"/>
            </a:xfrm>
            <a:prstGeom prst="rightArrow">
              <a:avLst>
                <a:gd name="adj1" fmla="val 75000"/>
                <a:gd name="adj2" fmla="val 17681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401000" y="4057920"/>
              <a:ext cx="1921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Wri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392720" y="4846680"/>
            <a:ext cx="2802600" cy="754200"/>
            <a:chOff x="4392720" y="4846680"/>
            <a:chExt cx="2802600" cy="754200"/>
          </a:xfrm>
        </p:grpSpPr>
        <p:sp>
          <p:nvSpPr>
            <p:cNvPr id="240" name=""/>
            <p:cNvSpPr/>
            <p:nvPr/>
          </p:nvSpPr>
          <p:spPr>
            <a:xfrm flipH="1">
              <a:off x="4392720" y="4846680"/>
              <a:ext cx="2743200" cy="754200"/>
            </a:xfrm>
            <a:prstGeom prst="rightArrow">
              <a:avLst>
                <a:gd name="adj1" fmla="val 75000"/>
                <a:gd name="adj2" fmla="val 18187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96520" y="4994280"/>
              <a:ext cx="209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Re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2462400" y="3809880"/>
            <a:ext cx="2037600" cy="2350440"/>
            <a:chOff x="2462400" y="3809880"/>
            <a:chExt cx="2037600" cy="2350440"/>
          </a:xfrm>
        </p:grpSpPr>
        <p:grpSp>
          <p:nvGrpSpPr>
            <p:cNvPr id="243" name=""/>
            <p:cNvGrpSpPr/>
            <p:nvPr/>
          </p:nvGrpSpPr>
          <p:grpSpPr>
            <a:xfrm>
              <a:off x="2612880" y="3809880"/>
              <a:ext cx="1524240" cy="1726560"/>
              <a:chOff x="2612880" y="3809880"/>
              <a:chExt cx="1524240" cy="1726560"/>
            </a:xfrm>
          </p:grpSpPr>
          <p:sp>
            <p:nvSpPr>
              <p:cNvPr id="244" name=""/>
              <p:cNvSpPr/>
              <p:nvPr/>
            </p:nvSpPr>
            <p:spPr>
              <a:xfrm>
                <a:off x="2624040" y="380988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624040" y="482400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61288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3712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462400" y="5644800"/>
              <a:ext cx="203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SO 10303 (STEP)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11 : 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anguage reference man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21 : Data exchange fi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lear text encoding exchange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echnical Corundum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22 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ndard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ta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cess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lus language bindings (Part 23 = C++, Part 24 = 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41-49 : Integrated Generic 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The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Development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Proces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98960" y="541008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n Export Translat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27432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94640" y="2514600"/>
            <a:ext cx="175500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hang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259" name=""/>
            <p:cNvGrpSpPr/>
            <p:nvPr/>
          </p:nvGrpSpPr>
          <p:grpSpPr>
            <a:xfrm>
              <a:off x="990720" y="4724280"/>
              <a:ext cx="7010280" cy="1524240"/>
              <a:chOff x="990720" y="4724280"/>
              <a:chExt cx="7010280" cy="15242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990720" y="4724280"/>
                <a:ext cx="2133360" cy="1524240"/>
                <a:chOff x="990720" y="4724280"/>
                <a:chExt cx="2133360" cy="1524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990720" y="4724280"/>
                  <a:ext cx="213336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524600" y="4876920"/>
                  <a:ext cx="12672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ative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5867280" y="4724280"/>
                <a:ext cx="2133720" cy="1524240"/>
                <a:chOff x="5867280" y="4724280"/>
                <a:chExt cx="2133720" cy="15242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5867280" y="4724280"/>
                  <a:ext cx="213372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096600" y="4876920"/>
                  <a:ext cx="146988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eutral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6" name=""/>
            <p:cNvSpPr/>
            <p:nvPr/>
          </p:nvSpPr>
          <p:spPr>
            <a:xfrm>
              <a:off x="3200400" y="5105520"/>
              <a:ext cx="2590920" cy="685800"/>
            </a:xfrm>
            <a:prstGeom prst="rightArrow">
              <a:avLst>
                <a:gd name="adj1" fmla="val 50000"/>
                <a:gd name="adj2" fmla="val 94449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RANSLA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67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34920" y="2152800"/>
            <a:ext cx="6962760" cy="3800160"/>
          </a:xfrm>
          <a:prstGeom prst="rightArrow">
            <a:avLst>
              <a:gd name="adj1" fmla="val 50000"/>
              <a:gd name="adj2" fmla="val 916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255840" y="3325680"/>
            <a:ext cx="1108080" cy="1454040"/>
            <a:chOff x="3255840" y="3325680"/>
            <a:chExt cx="1108080" cy="1454040"/>
          </a:xfrm>
        </p:grpSpPr>
        <p:sp>
          <p:nvSpPr>
            <p:cNvPr id="272" name=""/>
            <p:cNvSpPr/>
            <p:nvPr/>
          </p:nvSpPr>
          <p:spPr>
            <a:xfrm>
              <a:off x="3267360" y="3325680"/>
              <a:ext cx="1084680" cy="59688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67360" y="4182480"/>
              <a:ext cx="1084680" cy="59724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5584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6392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 rot="16200000">
            <a:off x="2382120" y="3734280"/>
            <a:ext cx="1274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DA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653000" y="3441600"/>
            <a:ext cx="2332080" cy="1222560"/>
          </a:xfrm>
          <a:prstGeom prst="rightArrow">
            <a:avLst>
              <a:gd name="adj1" fmla="val 75000"/>
              <a:gd name="adj2" fmla="val 95385"/>
            </a:avLst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06560" y="3589200"/>
            <a:ext cx="12103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Wri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19240" y="3519360"/>
            <a:ext cx="1501560" cy="1067040"/>
          </a:xfrm>
          <a:prstGeom prst="rect">
            <a:avLst/>
          </a:prstGeom>
          <a:solidFill>
            <a:srgbClr val="47474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30400" y="3570120"/>
            <a:ext cx="1460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972720" y="5181480"/>
            <a:ext cx="1916640" cy="915840"/>
            <a:chOff x="972720" y="5181480"/>
            <a:chExt cx="1916640" cy="915840"/>
          </a:xfrm>
        </p:grpSpPr>
        <p:sp>
          <p:nvSpPr>
            <p:cNvPr id="282" name=""/>
            <p:cNvSpPr/>
            <p:nvPr/>
          </p:nvSpPr>
          <p:spPr>
            <a:xfrm rot="16200000">
              <a:off x="1600200" y="4647960"/>
              <a:ext cx="457200" cy="152424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72720" y="563760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Hand Cod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191120" y="1675080"/>
            <a:ext cx="4468320" cy="2058840"/>
            <a:chOff x="4191120" y="1675080"/>
            <a:chExt cx="4468320" cy="2058840"/>
          </a:xfrm>
        </p:grpSpPr>
        <p:sp>
          <p:nvSpPr>
            <p:cNvPr id="285" name=""/>
            <p:cNvSpPr/>
            <p:nvPr/>
          </p:nvSpPr>
          <p:spPr>
            <a:xfrm>
              <a:off x="6459480" y="1675080"/>
              <a:ext cx="2199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Gener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Automaticall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6400800" y="2514600"/>
              <a:ext cx="838080" cy="12193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4191120" y="2438280"/>
              <a:ext cx="2133360" cy="990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6073560" y="5103720"/>
            <a:ext cx="21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Reliable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maintain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transl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33720" y="1905120"/>
            <a:ext cx="1066680" cy="990360"/>
          </a:xfrm>
          <a:prstGeom prst="vertic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1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895480" y="2895120"/>
            <a:ext cx="5943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miliarisation with CIS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457200" y="1828800"/>
            <a:ext cx="2459160" cy="3324600"/>
            <a:chOff x="457200" y="1828800"/>
            <a:chExt cx="2459160" cy="3324600"/>
          </a:xfrm>
        </p:grpSpPr>
        <p:pic>
          <p:nvPicPr>
            <p:cNvPr id="293" name="" descr=""/>
            <p:cNvPicPr/>
            <p:nvPr/>
          </p:nvPicPr>
          <p:blipFill>
            <a:blip r:embed="rId1"/>
            <a:stretch/>
          </p:blipFill>
          <p:spPr>
            <a:xfrm>
              <a:off x="457200" y="1828800"/>
              <a:ext cx="245916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686160" y="457200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utral Data Exchan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199680" y="45720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124080" y="2514600"/>
            <a:ext cx="4525560" cy="1191240"/>
            <a:chOff x="3124080" y="2514600"/>
            <a:chExt cx="4525560" cy="1191240"/>
          </a:xfrm>
        </p:grpSpPr>
        <p:sp>
          <p:nvSpPr>
            <p:cNvPr id="53" name=""/>
            <p:cNvSpPr/>
            <p:nvPr/>
          </p:nvSpPr>
          <p:spPr>
            <a:xfrm>
              <a:off x="3124080" y="2743200"/>
              <a:ext cx="2514600" cy="762120"/>
            </a:xfrm>
            <a:prstGeom prst="rightArrow">
              <a:avLst>
                <a:gd name="adj1" fmla="val 50000"/>
                <a:gd name="adj2" fmla="val 82487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894640" y="25146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188000" y="43434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894640" y="3809880"/>
            <a:ext cx="1755000" cy="1724760"/>
            <a:chOff x="5894640" y="3809880"/>
            <a:chExt cx="1755000" cy="1724760"/>
          </a:xfrm>
        </p:grpSpPr>
        <p:sp>
          <p:nvSpPr>
            <p:cNvPr id="57" name=""/>
            <p:cNvSpPr/>
            <p:nvPr/>
          </p:nvSpPr>
          <p:spPr>
            <a:xfrm>
              <a:off x="5894640" y="43434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00800" y="3809880"/>
              <a:ext cx="83808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2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line spec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ustrial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CC Combination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et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rcial consid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practic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5486400" y="1828800"/>
            <a:ext cx="3048120" cy="3553200"/>
            <a:chOff x="5486400" y="1828800"/>
            <a:chExt cx="3048120" cy="3553200"/>
          </a:xfrm>
        </p:grpSpPr>
        <p:pic>
          <p:nvPicPr>
            <p:cNvPr id="298" name="" descr=""/>
            <p:cNvPicPr/>
            <p:nvPr/>
          </p:nvPicPr>
          <p:blipFill>
            <a:blip r:embed="rId1"/>
            <a:stretch/>
          </p:blipFill>
          <p:spPr>
            <a:xfrm>
              <a:off x="5486400" y="1828800"/>
              <a:ext cx="3048120" cy="27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6630120" y="4800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3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09680" y="3733920"/>
            <a:ext cx="6553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ecify Data mapp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re does each data item come fro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abular present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fin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gorithm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he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457200" y="1752480"/>
            <a:ext cx="5797080" cy="1866960"/>
            <a:chOff x="457200" y="1752480"/>
            <a:chExt cx="5797080" cy="186696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457200" y="1752480"/>
              <a:ext cx="350532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4267440" y="25146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4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mapping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 file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and debu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ormance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638680" y="2025720"/>
            <a:ext cx="3124440" cy="3356280"/>
            <a:chOff x="5638680" y="2025720"/>
            <a:chExt cx="3124440" cy="3356280"/>
          </a:xfrm>
        </p:grpSpPr>
        <p:pic>
          <p:nvPicPr>
            <p:cNvPr id="308" name="" descr=""/>
            <p:cNvPicPr/>
            <p:nvPr/>
          </p:nvPicPr>
          <p:blipFill>
            <a:blip r:embed="rId1"/>
            <a:stretch/>
          </p:blipFill>
          <p:spPr>
            <a:xfrm>
              <a:off x="5638680" y="2025720"/>
              <a:ext cx="312444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6173280" y="4800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31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31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318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321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23623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123360" y="31240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12200" y="2514600"/>
            <a:ext cx="190908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S/2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65" name=""/>
            <p:cNvGrpSpPr/>
            <p:nvPr/>
          </p:nvGrpSpPr>
          <p:grpSpPr>
            <a:xfrm>
              <a:off x="990720" y="4724280"/>
              <a:ext cx="2133360" cy="1524240"/>
              <a:chOff x="990720" y="4724280"/>
              <a:chExt cx="2133360" cy="1524240"/>
            </a:xfrm>
          </p:grpSpPr>
          <p:sp>
            <p:nvSpPr>
              <p:cNvPr id="66" name=""/>
              <p:cNvSpPr/>
              <p:nvPr/>
            </p:nvSpPr>
            <p:spPr>
              <a:xfrm>
                <a:off x="990720" y="47242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24600" y="48769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5867280" y="4724280"/>
              <a:ext cx="2133720" cy="1524240"/>
              <a:chOff x="5867280" y="4724280"/>
              <a:chExt cx="2133720" cy="1524240"/>
            </a:xfrm>
          </p:grpSpPr>
          <p:sp>
            <p:nvSpPr>
              <p:cNvPr id="69" name=""/>
              <p:cNvSpPr/>
              <p:nvPr/>
            </p:nvSpPr>
            <p:spPr>
              <a:xfrm>
                <a:off x="5867280" y="4724280"/>
                <a:ext cx="213372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96600" y="487692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3200400" y="5105520"/>
            <a:ext cx="2590920" cy="685800"/>
          </a:xfrm>
          <a:prstGeom prst="leftRightArrow">
            <a:avLst>
              <a:gd name="adj1" fmla="val 50000"/>
              <a:gd name="adj2" fmla="val 75209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047760" y="4038480"/>
            <a:ext cx="4724280" cy="970920"/>
            <a:chOff x="3047760" y="4038480"/>
            <a:chExt cx="4724280" cy="970920"/>
          </a:xfrm>
        </p:grpSpPr>
        <p:sp>
          <p:nvSpPr>
            <p:cNvPr id="73" name=""/>
            <p:cNvSpPr/>
            <p:nvPr/>
          </p:nvSpPr>
          <p:spPr>
            <a:xfrm rot="5400000">
              <a:off x="5219280" y="1866600"/>
              <a:ext cx="381240" cy="472428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23120 h 4724280"/>
                <a:gd name="textAreaBottom" fmla="*/ 4601160 h 472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50960" y="4549680"/>
              <a:ext cx="20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IS/2 Specif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5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79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2666880"/>
            <a:ext cx="2743200" cy="1524240"/>
          </a:xfrm>
          <a:prstGeom prst="wedgeRoundRectCallout">
            <a:avLst>
              <a:gd name="adj1" fmla="val 3240"/>
              <a:gd name="adj2" fmla="val 8729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pplication’s 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2819520"/>
            <a:ext cx="17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87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2666880"/>
            <a:ext cx="2514600" cy="1524240"/>
          </a:xfrm>
          <a:prstGeom prst="wedgeRoundRectCallout">
            <a:avLst>
              <a:gd name="adj1" fmla="val -569"/>
              <a:gd name="adj2" fmla="val 88023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 CIS/2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duct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1600" y="3048120"/>
            <a:ext cx="298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IS Exchange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 Repos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Product Model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PM/5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ical Product Model version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and Complex information mode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and production of Steel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ly defined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464832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 DD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209680"/>
            <a:ext cx="83059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Courier New"/>
              </a:rPr>
              <a:t>boundary_condition_spring_line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PERTYPE OF (boundary_condition_warpin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BTYPE OF (boundary_condi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0 : EXISTS (bc_x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y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displacement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1 : EXISTS (bc_x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 (bc_y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rota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D_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cp:lastPrinted>1999-06-19T15:36:00Z</cp:lastPrinted>
  <dcterms:modified xsi:type="dcterms:W3CDTF">1999-06-23T00:34:30Z</dcterms:modified>
  <cp:revision>23</cp:revision>
  <dc:subject/>
  <dc:title>AISC CIS/2  Workshop #I</dc:title>
</cp:coreProperties>
</file>